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AFB-A85C-45C4-8807-B033FBD0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A7C-31FF-49E5-A69F-BEEEF04A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D57-95EB-499E-81C3-D9821A16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5B1-6B1A-4DB7-BD1C-FBA30DA5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B5D-CD6D-4A38-950E-3E332F02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253-4414-4DC5-9C78-34630330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13A-C06C-4F49-B324-9CA95211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AE0-473A-48AA-83FC-4FE33BDF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8635-F142-4968-B23F-C01F1BEA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BB7-3909-4CAF-BDB4-2504A34B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27E-C1FB-451D-B1F1-02C51535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03E3-882C-48EE-9BD0-EC1C479C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1BD1-D90D-4EC7-876D-599CA4463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tributed File Syst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are distributed file systems useful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difficult about distributed file system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es NFS work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Haryadi S. Gunaw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50C-7BBA-436E-87FE-0F400F4290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dempotency and Statelessnes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y stateless server and idempoten protocol are very simple to implement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onsider this example of a simple 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</a:rPr>
              <a:t>stateful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server and 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</a:rPr>
              <a:t>non-idempotent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protocol.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server keeps track a nextByteToRead for each file opened by each client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nfs_read protocol does 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have the 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parameter (I.e. nfs_read(fh, 100 bytes))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this protocol is not idempotent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nfs_read is called twice, the first call “should” get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100 bytes, and the second call “should” get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100 bytes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19F-03CD-47D8-9EE1-039E5C61F1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on-Idempotent Protocol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n-idempotent protocol is hard to get righ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halkboard"/>
              </a:rPr>
              <a:t>It “expects” no-failur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in the system (but network is not reliabl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elow is an example of a non-idempotent protocol in the midst of a network failure (The read “retry” gets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100 bytes, while it expects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100 byt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971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954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3760" y="3048120"/>
            <a:ext cx="13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nfs_open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73240" y="3048120"/>
            <a:ext cx="27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erver creates a state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, nextByteToRead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4040" y="3505320"/>
            <a:ext cx="10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Get A’s f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51800" y="3962520"/>
            <a:ext cx="177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nfs_read(fh, 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51800" y="4876920"/>
            <a:ext cx="177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(No respons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Let’s ret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nfs_read(fh, 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53240" y="4191120"/>
            <a:ext cx="25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turn the 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1</a:t>
            </a:r>
            <a:r>
              <a:rPr b="1" lang="en-US" sz="1600" spc="-1" strike="noStrike" baseline="30000">
                <a:solidFill>
                  <a:srgbClr val="cc3300"/>
                </a:solidFill>
                <a:latin typeface="Chalkboard"/>
              </a:rPr>
              <a:t>st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 1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, nextByteToRead =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5334120"/>
            <a:ext cx="2516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turn the 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2</a:t>
            </a:r>
            <a:r>
              <a:rPr b="1" lang="en-US" sz="1600" spc="-1" strike="noStrike" baseline="30000">
                <a:solidFill>
                  <a:srgbClr val="cc3300"/>
                </a:solidFill>
                <a:latin typeface="Chalkboard"/>
              </a:rPr>
              <a:t>nd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 1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, nextByteToRead =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3200400"/>
            <a:ext cx="2514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200040" y="342900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4114800"/>
            <a:ext cx="2514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95320" y="44197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06600" y="426708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5410080"/>
            <a:ext cx="2514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00040" y="5638680"/>
            <a:ext cx="2514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05480" y="5867280"/>
            <a:ext cx="216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Get the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halkboard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 1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lthough </a:t>
            </a:r>
            <a:r>
              <a:rPr b="0" lang="en-US" sz="1600" spc="-1" strike="noStrike">
                <a:solidFill>
                  <a:srgbClr val="cc3300"/>
                </a:solidFill>
                <a:latin typeface="Chalkboard"/>
              </a:rPr>
              <a:t>expec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halkboard"/>
              </a:rPr>
              <a:t>the 1</a:t>
            </a:r>
            <a:r>
              <a:rPr b="0" lang="en-US" sz="1600" spc="-1" strike="noStrike" baseline="30000">
                <a:solidFill>
                  <a:srgbClr val="cc3300"/>
                </a:solidFill>
                <a:latin typeface="Chalkboard"/>
              </a:rPr>
              <a:t>st</a:t>
            </a:r>
            <a:r>
              <a:rPr b="0" lang="en-US" sz="1600" spc="-1" strike="noStrike">
                <a:solidFill>
                  <a:srgbClr val="cc3300"/>
                </a:solidFill>
                <a:latin typeface="Chalkboard"/>
              </a:rPr>
              <a:t> 1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970-CFF2-4343-AB14-9A7FACC772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dempotent Protocol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6091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lient must specify the offse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failure happens, simply retry the oper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try is very easy for idempotent protoco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2971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28954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3760" y="3048120"/>
            <a:ext cx="13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nfs_open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120" y="3048120"/>
            <a:ext cx="257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erver does not 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ny states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4040" y="3505320"/>
            <a:ext cx="10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Get A’s f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46880" y="396252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nfs_read(fh, 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0,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 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24640" y="4876920"/>
            <a:ext cx="200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(No respons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Let’s ret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nfs_read(fh, 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0,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 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32720" y="4191120"/>
            <a:ext cx="247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turn the 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1</a:t>
            </a:r>
            <a:r>
              <a:rPr b="1" lang="en-US" sz="1600" spc="-1" strike="noStrike" baseline="30000">
                <a:solidFill>
                  <a:srgbClr val="cc3300"/>
                </a:solidFill>
                <a:latin typeface="Chalkboard"/>
              </a:rPr>
              <a:t>st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 1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(get offset 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5334120"/>
            <a:ext cx="251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turn the 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1</a:t>
            </a:r>
            <a:r>
              <a:rPr b="1" lang="en-US" sz="1600" spc="-1" strike="noStrike" baseline="30000">
                <a:solidFill>
                  <a:srgbClr val="cc3300"/>
                </a:solidFill>
                <a:latin typeface="Chalkboard"/>
              </a:rPr>
              <a:t>st</a:t>
            </a:r>
            <a:r>
              <a:rPr b="1" lang="en-US" sz="1600" spc="-1" strike="noStrike">
                <a:solidFill>
                  <a:srgbClr val="cc3300"/>
                </a:solidFill>
                <a:latin typeface="Chalkboard"/>
              </a:rPr>
              <a:t> 1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(get offset 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200400"/>
            <a:ext cx="2514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00040" y="342900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4114800"/>
            <a:ext cx="2514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495320" y="44197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06600" y="426708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5410080"/>
            <a:ext cx="2514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00040" y="5638680"/>
            <a:ext cx="2514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51920" y="586728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Get the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halkboard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 1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35A-B740-401E-A407-232396D183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apping UNIX System Calls to NFS Opera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nix system cal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d = open(“/mnt/nfs/dir/foo”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(Say we mount an NFS file system to /mnt/nfs/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verse pathname to get filehandle for foo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rfh = lookup(rootdirfh, “dir”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h = lookup(dirfh, “foo”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cord mapping 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d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e descriptor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h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NFS filehand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t initial file offset to 0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, and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e descripto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y there is no lookup(“mnt”) or lookup(“nfs”)?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ecause “mnt” and “nfs” are local file system directori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en the client accesses “nfs” directory, the mount protocol is run to hook a file system at the NFS server in “/mnt/nfs”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ext time the client access “nfs” subdirectories, the VFS layer knows that it must reroute fs operations to NFS-specific file system operation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0C3-77FA-4E8A-B5D1-3B5BC8B310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67ff"/>
                </a:solidFill>
                <a:latin typeface="Chalkboard"/>
              </a:rPr>
              <a:t>Mapping UNIX System Calls to NFS Operations</a:t>
            </a:r>
            <a:endParaRPr b="0" lang="en-US" sz="36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nix system call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ad(fd,buffer,bytes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et current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p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h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NFS filehandl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 = read(fh, offset, bytes)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and cop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in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crement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t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nix system call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ose(fd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ree resources associated with f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60E-2D0E-490A-BA44-AFB3FB44EB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ent-side Cach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aching needed to improve performanc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ads: Check local cache before going to serv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rites: Only periodically write-back data to serv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void contacting serv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void slow communication over networ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rver becomes scalability bottleneck with more cli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wo client cach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ata block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ttributes (metadata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56A-EEAE-43AA-904A-EAE147A5EC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ache Consistenc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oblem: Consistency across multiple copies (server and multiple clients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keep data consistent between client and server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file is changed on server, will client see update? No, because the server does not know who is using the file (i.e. stateless server cannot do anything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termining factor: Read policy on cli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keep data consistent across client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write file on client A and read on client B, will B see update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termining factor: Write and read policy on cli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560-7115-474B-9F22-AB464419EE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FS Consistency: Read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ads: How does client keep current with server stat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ttribute cache: Used to determine when file chan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ile open: Client checks server to see if attributes have chang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If haven’t checked in past T seconds (configurable, T=3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scard entries every N seconds (configurable, N=60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ata cach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scard all blocks of file if attributes show file has been modifi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g: Client cache has file A’s attributes and blocks 1, 2, 3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opens A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(if haven’t checked, goto server, else, do nothing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reads block 1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read from local cach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waits 70 seconds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all entries are discard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reads block 2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: must lookup(A) to the server, and attribute of A says A hasn’t been modified, so read from local cach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lock 3 is changed on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reads block 3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(say 3 seconds have not elapsed) read the old b3 from local cach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reads block 4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read b4 from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waits 70 seconds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all entries are discard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reads block 1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lookup(A) to the server, A has been modified, hence read b1 from the server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CD4-EEF2-43EE-BA75-859EBBA08D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FS Consistency: Writ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rites: How does client update server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Write-back from client cache to server every 30 second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lso, Flush on close(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rectori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ynchronously write to server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Client X and Y have file A (blocks 1,2,3) cach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s X and Y open file A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X writes to blocks 1 and 2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write b1 and b2 to local cach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Y reads block 1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read the old b1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30 seconds later...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new b1 and b2 have been flushed to the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Y reads block 2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lookup(A) to the server, A has changed! So, discard all data, and read b2 from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40 seconds later..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Y reads block 1: </a:t>
            </a:r>
            <a:r>
              <a:rPr b="0" i="1" lang="en-US" sz="1800" spc="-1" strike="noStrike">
                <a:solidFill>
                  <a:srgbClr val="000000"/>
                </a:solidFill>
                <a:latin typeface="Chalkboard"/>
              </a:rPr>
              <a:t>lookup(A) to the server, A is the same, but its data has been discarded before, so read b1 from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A48-1F25-4A5D-8E59-C154737822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tocol Implement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52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VF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FS Clien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PC (Remote Procedure Call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lient-Server communicates in a very simple manner: function calls!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The compiler creates client-server stubs that implement the low-level detail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lient simply call nfsd_read() but nfsd_read() is implemented at the server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se XDR for formatting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-----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DP (User Datagram Protocol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unterpart of TCP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tateless protocol (message can lost and not retransmitted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10160" y="1523880"/>
            <a:ext cx="415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DP receives the messag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-----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XDR and RPC sets up the function arguments, and call the actual implementation (e.g. nfsd_read()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FS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nfsd_read() calls VFS to reroute the actual read() to the local file system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9CB-D7C4-4E3D-B9E9-E968334878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is a distributed file system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90720" y="1905120"/>
            <a:ext cx="914400" cy="1066680"/>
            <a:chOff x="990720" y="1905120"/>
            <a:chExt cx="914400" cy="1066680"/>
          </a:xfrm>
        </p:grpSpPr>
        <p:sp>
          <p:nvSpPr>
            <p:cNvPr id="48" name=""/>
            <p:cNvSpPr/>
            <p:nvPr/>
          </p:nvSpPr>
          <p:spPr>
            <a:xfrm>
              <a:off x="990720" y="1905120"/>
              <a:ext cx="762120" cy="1066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43360" y="2361960"/>
              <a:ext cx="380880" cy="53316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90720" y="19810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133720" y="2590920"/>
            <a:ext cx="914400" cy="1066680"/>
            <a:chOff x="2133720" y="2590920"/>
            <a:chExt cx="914400" cy="1066680"/>
          </a:xfrm>
        </p:grpSpPr>
        <p:sp>
          <p:nvSpPr>
            <p:cNvPr id="52" name=""/>
            <p:cNvSpPr/>
            <p:nvPr/>
          </p:nvSpPr>
          <p:spPr>
            <a:xfrm>
              <a:off x="2133720" y="2590920"/>
              <a:ext cx="762120" cy="1066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6360" y="3047760"/>
              <a:ext cx="380880" cy="53316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33720" y="26668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828800" y="4038480"/>
            <a:ext cx="914400" cy="1067040"/>
            <a:chOff x="1828800" y="4038480"/>
            <a:chExt cx="914400" cy="1067040"/>
          </a:xfrm>
        </p:grpSpPr>
        <p:sp>
          <p:nvSpPr>
            <p:cNvPr id="56" name=""/>
            <p:cNvSpPr/>
            <p:nvPr/>
          </p:nvSpPr>
          <p:spPr>
            <a:xfrm>
              <a:off x="1828800" y="4038480"/>
              <a:ext cx="762120" cy="1067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1440" y="4495680"/>
              <a:ext cx="380880" cy="53352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41148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066680" y="5410080"/>
            <a:ext cx="762120" cy="106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5486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2971800"/>
            <a:ext cx="3124080" cy="160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1400" y="312408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3809880"/>
            <a:ext cx="380880" cy="60984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09880"/>
            <a:ext cx="380880" cy="60984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3809880"/>
            <a:ext cx="381240" cy="60984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3809880"/>
            <a:ext cx="380880" cy="60984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3809880"/>
            <a:ext cx="380880" cy="60984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0200" y="2620800"/>
            <a:ext cx="2303280" cy="3019680"/>
          </a:xfrm>
          <a:custGeom>
            <a:avLst/>
            <a:gdLst/>
            <a:ahLst/>
            <a:rect l="l" t="t" r="r" b="b"/>
            <a:pathLst>
              <a:path w="1451" h="1902">
                <a:moveTo>
                  <a:pt x="239" y="236"/>
                </a:moveTo>
                <a:cubicBezTo>
                  <a:pt x="227" y="73"/>
                  <a:pt x="190" y="45"/>
                  <a:pt x="331" y="0"/>
                </a:cubicBezTo>
                <a:cubicBezTo>
                  <a:pt x="435" y="12"/>
                  <a:pt x="386" y="1"/>
                  <a:pt x="475" y="31"/>
                </a:cubicBezTo>
                <a:cubicBezTo>
                  <a:pt x="484" y="34"/>
                  <a:pt x="505" y="41"/>
                  <a:pt x="505" y="41"/>
                </a:cubicBezTo>
                <a:cubicBezTo>
                  <a:pt x="540" y="67"/>
                  <a:pt x="570" y="98"/>
                  <a:pt x="608" y="123"/>
                </a:cubicBezTo>
                <a:cubicBezTo>
                  <a:pt x="753" y="116"/>
                  <a:pt x="821" y="118"/>
                  <a:pt x="946" y="82"/>
                </a:cubicBezTo>
                <a:cubicBezTo>
                  <a:pt x="1060" y="92"/>
                  <a:pt x="1111" y="91"/>
                  <a:pt x="1152" y="205"/>
                </a:cubicBezTo>
                <a:cubicBezTo>
                  <a:pt x="1161" y="314"/>
                  <a:pt x="1175" y="457"/>
                  <a:pt x="1193" y="564"/>
                </a:cubicBezTo>
                <a:cubicBezTo>
                  <a:pt x="1203" y="627"/>
                  <a:pt x="1245" y="702"/>
                  <a:pt x="1275" y="759"/>
                </a:cubicBezTo>
                <a:cubicBezTo>
                  <a:pt x="1297" y="851"/>
                  <a:pt x="1287" y="938"/>
                  <a:pt x="1326" y="1026"/>
                </a:cubicBezTo>
                <a:cubicBezTo>
                  <a:pt x="1330" y="1035"/>
                  <a:pt x="1328" y="1048"/>
                  <a:pt x="1336" y="1056"/>
                </a:cubicBezTo>
                <a:cubicBezTo>
                  <a:pt x="1343" y="1063"/>
                  <a:pt x="1356" y="1063"/>
                  <a:pt x="1367" y="1067"/>
                </a:cubicBezTo>
                <a:cubicBezTo>
                  <a:pt x="1403" y="1121"/>
                  <a:pt x="1407" y="1189"/>
                  <a:pt x="1428" y="1251"/>
                </a:cubicBezTo>
                <a:cubicBezTo>
                  <a:pt x="1434" y="1354"/>
                  <a:pt x="1451" y="1528"/>
                  <a:pt x="1428" y="1631"/>
                </a:cubicBezTo>
                <a:cubicBezTo>
                  <a:pt x="1419" y="1665"/>
                  <a:pt x="1323" y="1686"/>
                  <a:pt x="1295" y="1692"/>
                </a:cubicBezTo>
                <a:cubicBezTo>
                  <a:pt x="1164" y="1717"/>
                  <a:pt x="1038" y="1734"/>
                  <a:pt x="905" y="1743"/>
                </a:cubicBezTo>
                <a:cubicBezTo>
                  <a:pt x="767" y="1767"/>
                  <a:pt x="624" y="1763"/>
                  <a:pt x="485" y="1774"/>
                </a:cubicBezTo>
                <a:cubicBezTo>
                  <a:pt x="399" y="1809"/>
                  <a:pt x="330" y="1864"/>
                  <a:pt x="239" y="1887"/>
                </a:cubicBezTo>
                <a:cubicBezTo>
                  <a:pt x="70" y="1865"/>
                  <a:pt x="89" y="1902"/>
                  <a:pt x="64" y="1784"/>
                </a:cubicBezTo>
                <a:cubicBezTo>
                  <a:pt x="67" y="1729"/>
                  <a:pt x="70" y="1674"/>
                  <a:pt x="75" y="1620"/>
                </a:cubicBezTo>
                <a:cubicBezTo>
                  <a:pt x="90" y="1436"/>
                  <a:pt x="134" y="1444"/>
                  <a:pt x="44" y="1354"/>
                </a:cubicBezTo>
                <a:cubicBezTo>
                  <a:pt x="31" y="1322"/>
                  <a:pt x="4" y="1294"/>
                  <a:pt x="3" y="1261"/>
                </a:cubicBezTo>
                <a:cubicBezTo>
                  <a:pt x="0" y="1189"/>
                  <a:pt x="0" y="1116"/>
                  <a:pt x="13" y="1046"/>
                </a:cubicBezTo>
                <a:cubicBezTo>
                  <a:pt x="21" y="1000"/>
                  <a:pt x="113" y="875"/>
                  <a:pt x="146" y="831"/>
                </a:cubicBezTo>
                <a:cubicBezTo>
                  <a:pt x="159" y="745"/>
                  <a:pt x="187" y="671"/>
                  <a:pt x="198" y="585"/>
                </a:cubicBezTo>
                <a:cubicBezTo>
                  <a:pt x="201" y="513"/>
                  <a:pt x="200" y="440"/>
                  <a:pt x="208" y="369"/>
                </a:cubicBezTo>
                <a:cubicBezTo>
                  <a:pt x="212" y="323"/>
                  <a:pt x="232" y="280"/>
                  <a:pt x="239" y="236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87600" y="397188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31240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28800" y="53341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213372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56386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FS: one of the most successful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Examples: NFS, A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223-BE12-45B1-8CF6-C71C1EBAD4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nclus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tributed file system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ortant for data sharing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hallenges: Fault tolerance, scalable performance, and consistenc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FS: Popular distributed file syste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y features: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tateless server, idempotent operations: Simplifies fault toleran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rashed server appears as slow server to clien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lient caches needed for scalable performan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ules for invalidating cache entries and flushing data to server are not straight-forwar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ata consistency very hard to reason abou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0EC-3AD7-4C34-B934-D882EB451E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are distributed file systems useful? (i.e. why not just use bunches of local disks?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ccess from multiple cli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ame user on different machines can access same fil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mplifies shar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fferent users on different machines can read/write to same files (“check out my files in my public directories”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mplifies administr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ne shared server to maintain (and backup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: A company with thousands of employe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rove reliabilit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ultiple copies in your laptop are not much protectio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an use lots of large disks (cheaper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dd RAID storage to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y carry all your files with you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9ED-ED1F-46B4-A358-6E02535195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halleng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Everything used to be local (read from disk to memory, write to memory then to local disk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In DFS, when read from the server? When write to server?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erformance scalability: Performance does not degrade as more clients are added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nsistenc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ee same directory and file contents on different clients at same time (reflect the latest modification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One or more servers/disks/network can down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Whenever possible, should keep the system alive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ault Toleran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lient and server identify and respond appropriately when other crashe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Ex: server crashes, your updated file is still in your laptop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ransparent acc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ser sees single, global file system regardless of location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ecure communication and user authentication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halkboard"/>
              </a:rPr>
              <a:t>Tension across these goals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Chalkboard"/>
              </a:rPr>
              <a:t>Example: Caching helps performance, but hurts consistency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889-B737-4965-B64F-06F4EE09B6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ase Study: NF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un’s Network File System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troduced in 1980s, multiple versions (v2, v3, </a:t>
            </a:r>
            <a:r>
              <a:rPr b="0" i="1" lang="en-US" sz="2400" spc="-1" strike="noStrike">
                <a:solidFill>
                  <a:srgbClr val="ccccff"/>
                </a:solidFill>
                <a:latin typeface="Chalkboard"/>
              </a:rPr>
              <a:t>v4</a:t>
            </a:r>
            <a:r>
              <a:rPr b="0" lang="en-US" sz="2400" spc="-1" strike="noStrike">
                <a:solidFill>
                  <a:srgbClr val="ccccff"/>
                </a:solidFill>
                <a:latin typeface="Chalkboar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NFS Goal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chine/OS independe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ash recove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rver crashes should be simple to deal with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ransparent acces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mote should look like local (no special libraries, no recompil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asonable perform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rd to defin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80% of local disk performance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73E-4E7F-4A17-AB37-F6AE25BDD7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Key Idea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halkboard"/>
              </a:rPr>
              <a:t>Key idea #1: </a:t>
            </a:r>
            <a:r>
              <a:rPr b="1" lang="en-US" sz="2400" spc="-1" strike="noStrike">
                <a:solidFill>
                  <a:srgbClr val="cc3300"/>
                </a:solidFill>
                <a:latin typeface="Chalkboard"/>
              </a:rPr>
              <a:t>Stateless serv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rver not required to remember anything (in memory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ich clients are connected, which files are open, ..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lication: All client requests have enough info to complete op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Client specifies offset in file to write to, a file handle carries an inode number of the file at the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e Advantage: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lkboard"/>
              </a:rPr>
              <a:t>Scalability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: server state does not grow with more clien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ad Advantages: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lkboard"/>
              </a:rPr>
              <a:t>No locking (2 writers are allowed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s cannot tell between slow-server or unavailable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halkboard"/>
              </a:rPr>
              <a:t>Key idea #2: </a:t>
            </a:r>
            <a:r>
              <a:rPr b="1" lang="en-US" sz="2400" spc="-1" strike="noStrike">
                <a:solidFill>
                  <a:srgbClr val="cc3300"/>
                </a:solidFill>
                <a:latin typeface="Chalkboard"/>
              </a:rPr>
              <a:t>Idempotent server opera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peration can be repeated with same result (no side effect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read/write specifies the offset of the bytes to read (Hence, repeating the same read/write will give an idempotent operation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e Advantage: makes recovery from server crash really eas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rver: start, and do nothing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: just </a:t>
            </a:r>
            <a:r>
              <a:rPr b="1" lang="en-US" sz="1800" spc="-1" strike="noStrike">
                <a:solidFill>
                  <a:srgbClr val="cc3300"/>
                </a:solidFill>
                <a:latin typeface="Chalkboard"/>
              </a:rPr>
              <a:t>retry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(same as network failure, no special code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761C-4D90-4A39-91A8-D872037026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FS Overview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mote Procedure Calls (RPC) for communication between client and serv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lient Implement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vides transparent access to NFS file system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NIX contains Virtual File system layer (VFS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 major contribution to provide a generic layer for plugging in new file system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VFS maintains a generic inode structure (e.g. called vnode in literature), and directory cach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nslates vnode operations to NFS RPC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erver Implement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ateless: Must not have anything only in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lication: All modified data written to stable storage before return control to cli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rvers often add NVRAM to improve performan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D0C-C373-47AA-A3EE-DBF3F658A2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sic NFS Protocol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fferentiate NFS protocol vs. System Call API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System call API: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How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applications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talk to the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NFS protocol: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How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NFS clien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can talk to the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NFS serv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mplementation of NFS client and server commonly resides in the kernel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FS client simply makes the “function call” over RPC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FS server must implement all the operations below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okup(dirfh, name) returns (fh, attribut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 mount protocol for root director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(dirfh, name, attr) returns (newfs, attr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dirfs, name) returns (statu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(fh, offset, count) returns (attr, data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ite(fh, offset, count, data) returns att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tattr(fh) returns att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15C-D192-45AE-A8C3-82F2520BBC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FS Protocol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mportant note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s missing? Open(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dempotency: reads and writes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.g. reads must specify the </a:t>
            </a:r>
            <a:r>
              <a:rPr b="1" lang="en-US" sz="1800" spc="-1" strike="noStrike">
                <a:solidFill>
                  <a:srgbClr val="000000"/>
                </a:solidFill>
                <a:latin typeface="Chalkboard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of the next byte to read (the server does not keep track that information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ence, the </a:t>
            </a:r>
            <a:r>
              <a:rPr b="1" lang="en-US" sz="1800" spc="-1" strike="noStrike">
                <a:solidFill>
                  <a:srgbClr val="000000"/>
                </a:solidFill>
                <a:latin typeface="Chalkboard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parameter is very important for idempotenc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atelessness: reads and writes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.g. server does not keep track the latest byte offset rea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’s inside a file handle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s-id: a server can serves multiple file system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node number: (just like in local file system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node generation number: (to track freed inodes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lient 1: open a file (inode #7), and read/write to that file (but hasn’t closed the file, i.e., still keeps the handle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lient 2: delete the file (inode #7 is freed on the server), and create a new file (and suppose inode #7 is reused by the server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lient 1: write to the file handle (inode #7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369-248D-472E-BDB3-95DF61AC9A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UW Madison Computer Sciences</cp:lastModifiedBy>
  <cp:lastPrinted>2005-12-02T17:31:03Z</cp:lastPrinted>
  <dcterms:modified xsi:type="dcterms:W3CDTF">2008-11-11T21:19:43Z</dcterms:modified>
  <cp:revision>321</cp:revision>
  <dc:subject/>
  <dc:title>Synchronization</dc:title>
</cp:coreProperties>
</file>